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84D-E0EB-4B0E-AD75-21C1555A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7C8-72D3-46B8-89D6-DCAF3ED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720-C0A3-4A07-83EB-35325E6A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369-C51A-4E46-A681-0BC88180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90B3-5D36-461D-8594-725F00B3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34D-74D3-41FA-813A-697C9A17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A6C-510C-4229-AA4F-F3EAA3DD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B445-E408-4B0A-9F4B-24C1284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583B-2BF1-4340-843C-D1A20ACE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830-4E14-40F3-B7C9-6599FE1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80A-E001-4407-8A62-2C6B1E2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6E2-2986-478A-947F-2ED2ED20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AF8-AD78-4C43-B575-161708D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75D7-4534-479D-8FDD-1A4EFF95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F49-C700-40B8-945A-3A5A036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F712-2D17-422B-9B11-12FAFFE7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21F3-38EF-46BF-8D76-918D9D7A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6B4-495D-4274-90A1-16498B84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68E-5D5F-4018-92AA-9C9BCE4C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579-1A0B-43DD-9427-90960BB8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7C1-ACA7-46D1-A8EC-D449C0B8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330-F73B-4DE8-B71D-716C0590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E73-4A3F-46DE-86F7-B67DE76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95F-ABBE-44F1-818A-71126CE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DCAD-DC03-43C8-AD72-2A018E596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F58-72F5-45F4-89F5-04EB0F4AD9E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7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ntum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x Planc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8 – 1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ed a “quantum of action,” 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warded Nobel Prize in 1918 for discovering the quantized nature of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030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65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electric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light is incident on certain metallic surfaces, electrons are emitted from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electric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itted electron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elec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ffect was first discovered by Hert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ccessful explanation of the effect was given by Einstein in 19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ived Nobel Prize in 1921 for paper on electromagnetic radiation, of which the photoelectric effect was a 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electric Effect Schematic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light strikes E,  photoelectrons are e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collected at C and passing through the ammeter are a current in the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is maintained at a positive potential by the power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4495680" y="2058840"/>
            <a:ext cx="44704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electric Current/Voltage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increases with intensity, but reaches a saturation level for larg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V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No current flows for voltages less than or equal to –Δ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stopping potent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The stopping potential is independent of the radiation int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4343400" y="2182680"/>
            <a:ext cx="4699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Photoelectric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topping potential is independent of the radiation int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inetic energy of the photoelectrons is related to the stopping potential:  K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Features Not Explained by Classical Physics/Wave Theory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electrons are emitted if the incident light frequency is below som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utoff frequen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is characteristic of the material being illumin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inetic energy of the photoelectrons is independent of the light int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Features Not Explain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inetic energy of the photoelectrons increases with increasing light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s are emitted from the surface almost instantaneously, even at low intens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instein’s Explan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iny packet of light energy,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ho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ould be emitted when a quantized oscillator jumped from one energy level to the next lower 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nded Planck’s idea of quantization to electromagnetic radi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oton’s energy would be E = 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hoton can give all its energy to an electron in the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kinetic energy of the liberated photoelectron is K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ƒ – 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Φ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work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of the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xplanation of Classical “Problems”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ffect is not observed below a certain cutoff frequency since the photon energy must be greater than or equal to the work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out this, electrons are not emitted, regardless of the intensity of the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ximum KE depends only on the frequency and the work function, not on the int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Explan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ximum KE increases with increasing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ffect is instantaneous since there is a one-to-one interaction between the photon and the electr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ed for Quantum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s remained from classical mechanics that relativity didn’t expl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ckbody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magnetic radiation emitted by a heated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electric Eff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ission of electrons by an illuminated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al 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ission of sharp spectral lines by gas atoms in an electric discharge tu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rification of Einstein’s Theo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al observations of a linear relationship between KE and frequency confirm Einstein’s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x-intercept is the cutoff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6" descr="Fig 27-06"/>
          <p:cNvPicPr/>
          <p:nvPr/>
        </p:nvPicPr>
        <p:blipFill>
          <a:blip r:embed="rId1"/>
          <a:stretch/>
        </p:blipFill>
        <p:spPr>
          <a:xfrm>
            <a:off x="5145120" y="250992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utoff Wave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toff wavelength is related to the work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lengths greater th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cident on a material with a work fun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on’t result in the emission of photoelectr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Object 1024"/>
          <p:cNvGraphicFramePr/>
          <p:nvPr/>
        </p:nvGraphicFramePr>
        <p:xfrm>
          <a:off x="3124080" y="2971800"/>
          <a:ext cx="152424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15242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cel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tocells are an application of the photoelectric eff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light of sufficiently high frequency falls on the cell, a current is produc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etlights, garage door openers, elev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mile into the photoelectric camera!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 function of Zinc is 4.31eV. What is the cutoff wavelength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KE per electron if we illuminate Zinc with light of wavelength 3 n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 all answers in eV and Jou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X-Ray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radiation with short wave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s less than for ultravio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s are typically about 0.1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-rays have the ability to penetrate most materials with relative 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and named by Roentgen in 18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Production of X-rays, 1(reverse photoelctric?)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-rays are produced when high-speed electrons are suddenly slowed d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caused by the electron striking a metal tar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current in the filament causes electrons to be emi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freed electrons are accelerated toward a dense metal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arget is held at a higher potential than the fila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6" descr="Fig 27-08a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X-ray Spectr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x-ray spectrum has two distinct compon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ous broad spect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s on voltage applied to the tu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call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emsstrah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harp, intense lines depend on the nature of the target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75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tion of X-ray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lectron passes near a target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 is deflected from its path by its attraction to the nucle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oduces an accel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emit electromagnetic radiation when it is acceler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Fig 27-10"/>
          <p:cNvPicPr/>
          <p:nvPr/>
        </p:nvPicPr>
        <p:blipFill>
          <a:blip r:embed="rId1"/>
          <a:stretch/>
        </p:blipFill>
        <p:spPr>
          <a:xfrm>
            <a:off x="4343400" y="2666880"/>
            <a:ext cx="4611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lengths Produce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electron loses all of its energy in the collision, the initial energy of the electron is completely transformed into a ph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avelength can be found fr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133720" y="5181480"/>
          <a:ext cx="388620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81480"/>
                    <a:ext cx="38862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lengths Produced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all radiation produced is at this wave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electrons undergo more than one collision before being stop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results in the continuous spectrum pro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velopment of Quantum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900 to 193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velopment of ideas of quantum mechan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wave mechan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ly successful in explaining the behavior of atoms, molecules, and nucl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olved a large number of physicis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ck introduced basic id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hematical developments and interpretations involved such people as Einstein, Bohr, Sch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ahoma"/>
              </a:rPr>
              <a:t>ödinger, de Broglie, Heisenberg, Born and Dira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of X-rays by Cryst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iffraction to occur, the spacing between the lines must be approximately equal to the wavelength of the radiation to be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gular array of atoms in a crystal can act as a three-dimensional grating for diffracting X-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chematic for X-ray 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am of X-rays with a continuous range of wavelengths is incident on the crys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racted radiation is very intense in certain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directions correspond to constructive interference from waves reflected from the layers of the crys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raction pattern is detected by photographic f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6" descr="Fig 27-11"/>
          <p:cNvPicPr/>
          <p:nvPr/>
        </p:nvPicPr>
        <p:blipFill>
          <a:blip r:embed="rId1"/>
          <a:stretch/>
        </p:blipFill>
        <p:spPr>
          <a:xfrm>
            <a:off x="4572000" y="2590920"/>
            <a:ext cx="4383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 of X-ray Diffraction Patter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rray of spots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au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rystal structure is determined by analyzing the positions and intensities of the various sp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? How do we find out the atomic spacing in a crystalline structure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agg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beam reflected from the lower surface travels farther than the one reflected from the upper surf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path difference equals some integral multiple of the wavelength, constructive interference occu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ragg’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gives the conditions for constructive interfer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d si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θ = m λ, m = 1, 2, 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6" descr="Fig 27-13"/>
          <p:cNvPicPr/>
          <p:nvPr/>
        </p:nvPicPr>
        <p:blipFill>
          <a:blip r:embed="rId1"/>
          <a:stretch/>
        </p:blipFill>
        <p:spPr>
          <a:xfrm>
            <a:off x="4572000" y="2666880"/>
            <a:ext cx="4495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thur Holly Compt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92 – 196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the Compton eff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ed with cosmic 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or of the lab at U of Chica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Nobel Prize in 19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1030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67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Compton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ton directed a beam of x-rays toward a block of graph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found that the scattered x-rays had a slightly longer wavelength that the incident x-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means they also had less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mount of energy reduction depended on the angle at which the x-rays were scatt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e in wavelength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ton sh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ton Scatte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0448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ton assumed the photons acted like other particles in colli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and momentum were conser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hift in wavelength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1024"/>
          <p:cNvGraphicFramePr/>
          <p:nvPr/>
        </p:nvGraphicFramePr>
        <p:xfrm>
          <a:off x="406440" y="5702400"/>
          <a:ext cx="41655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702400"/>
                    <a:ext cx="4165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3867120" y="2438280"/>
            <a:ext cx="52768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ton Scattering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uantity h/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ton wave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ton wavelength = 0.002 43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small compared to visible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ton shift depends on the scattering angle and not on the wave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s confirm the results of Compton scattering and strongly support the photon 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otons and Electromagnetic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ight has a dual nature.  It exhibits both wave and particle character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es to all electromagnetic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frequencies allow one or the other characteristic to be more easily ob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hotoelectric effect and Compton scattering offer evidence for the particle nature of l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light and matter interact, light behaves as if it were composed of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ference and diffraction offer evidence of the wave nature of l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ouis de Brogli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92 – 198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ed the wave nature of elec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warded Nobel Prize in 192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030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03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ackbody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bject at any temperature emits electromagnetic radi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fan’s Law describes the total power radi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ctrum of the radiation depends on the temperature and properties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 Properties of Partic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24, Louis de Broglie postulated t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cause photons have wave and particle characteristics, perhaps all forms of matter have both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rthermore, the frequency and wavelength of matter waves can be deter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 Broglie Wavelength and Frequenc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 Broglie wavel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particle i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requency of matter waves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1747800" y="2994120"/>
          <a:ext cx="214632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2994120"/>
                    <a:ext cx="2146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1025"/>
          <p:cNvGraphicFramePr/>
          <p:nvPr/>
        </p:nvGraphicFramePr>
        <p:xfrm>
          <a:off x="2060640" y="4782960"/>
          <a:ext cx="136692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0640" y="4782960"/>
                    <a:ext cx="13669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ual Nature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 Broglie equations show the dual nature of mat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contains matter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and moment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contains wave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length and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s Michael a wave or a particle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wavelength of Michael(mass = 80kg.), if he os moving at 15m/c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Davisson-Germer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y scattered low-energy electrons from a nickel tar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y followed this with extensive diffraction measurements from various materi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avelength of the electrons calculated from the diffraction data agreed with the expected de Broglie waveleng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onfirmed the wave nature of elect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 experimenters have confirmed the wave nature of other partic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Electron Microscop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48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 microscope depends on the wave characteristics of elect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copes can only resolve details that are slightly smaller than the wavelength of the radiation used to illuminate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can be accelerated to high energies and have small wave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4" descr="Fig 27-17a"/>
          <p:cNvPicPr/>
          <p:nvPr/>
        </p:nvPicPr>
        <p:blipFill>
          <a:blip r:embed="rId1"/>
          <a:stretch/>
        </p:blipFill>
        <p:spPr>
          <a:xfrm>
            <a:off x="5486400" y="1600200"/>
            <a:ext cx="3273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rwin Schröding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87 – 196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known as the creator of wave 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ed on problems in general relativity, cosmology, and the application of quantum mechanics to bi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30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068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Wave Fun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26 Sch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ödinger proposed a wave equation that describes the manner in which matter waves change in space an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ödinger’s wave equation is a key element in quantum mechan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ödinger’s wave equation is generally solved for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wave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, 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Wave Fun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wave function depends on the particle’s position and th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value of Ψ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at some location at a given time is proportional to the probability of finding the particle at that location at that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erner Heisenber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01 – 197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an abstract mathematical model to explain wavelengths of spectral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trix mechan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contrib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certainty Princi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bel Prize in 19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omic and nuclear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s of molecular hydro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1030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0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ackbody Radiation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data for distribution of energy in blackbody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emperature increases, the total amount of energ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n by the area under the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emperature increases, the peak of the distribution shifts to shorter wave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Fig 27-02"/>
          <p:cNvPicPr/>
          <p:nvPr/>
        </p:nvPicPr>
        <p:blipFill>
          <a:blip r:embed="rId1"/>
          <a:stretch/>
        </p:blipFill>
        <p:spPr>
          <a:xfrm>
            <a:off x="5105520" y="1905120"/>
            <a:ext cx="33084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ncertainty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measurements are made, the experimenter is always faced with experimental uncertainties in the measu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cal mechanics offers no fundamental barrier to ultimate refinements in measu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cal mechanics would allow for measurements with arbitrarily small uncertain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ncertainty Principle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ntum mechanics predicts that a barrier to measurements with ultimately small uncertainties does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927 Heisenberg introduc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certainty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measurement of position of a particle is made with precis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x and a simultaneous measurement of linear momentum is made with precision Δ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, then the product of the two uncertainties can never be smaller than h/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ncertainty Principle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hematicall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physically impossible to measure simultaneously the exact position and the exact linear momentum of a parti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other form of the principle deals with energy and time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0"/>
              <p:cNvSpPr txBox="1"/>
              <p:nvPr/>
            </p:nvSpPr>
            <p:spPr>
              <a:xfrm>
                <a:off x="4952880" y="1752480"/>
                <a:ext cx="2210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Δ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"/>
              <p:cNvSpPr txBox="1"/>
              <p:nvPr/>
            </p:nvSpPr>
            <p:spPr>
              <a:xfrm>
                <a:off x="3657600" y="5803920"/>
                <a:ext cx="1971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Δt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ought Experiment – the Uncertainty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hought experiment for viewing an electron with a powerful micro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see the electron, at least one photon must bounce off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is interaction, momentum is transferred from the photon to the elect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the light that allows you to accurately locate the electron changes the momentum of the elect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6" descr="Fig 27-18ab"/>
          <p:cNvPicPr/>
          <p:nvPr/>
        </p:nvPicPr>
        <p:blipFill>
          <a:blip r:embed="rId1"/>
          <a:stretch/>
        </p:blipFill>
        <p:spPr>
          <a:xfrm>
            <a:off x="2590920" y="1981080"/>
            <a:ext cx="41259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certainty Principle Applied to an Electr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ew the electron as a parti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s position and velocity cannot both be know precisely at the same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s energy can be uncertain for a period given by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 = h / (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icroscope Resolu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rdinary microscopes, the resolution is limited by the wavelength of the waves used to make the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, resolution is about 200 n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, resolution is about 0.2 n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high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uld penetrate the target, so not give surfac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canning Tunneling Microscope (STM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highly detailed images with resolution comparable to the size of a single a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nducting probe with a sharp tip is brought near the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can “tunnel” across the barrier of empty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Fig 27-20"/>
          <p:cNvPicPr/>
          <p:nvPr/>
        </p:nvPicPr>
        <p:blipFill>
          <a:blip r:embed="rId1"/>
          <a:stretch/>
        </p:blipFill>
        <p:spPr>
          <a:xfrm>
            <a:off x="5257800" y="1981080"/>
            <a:ext cx="354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canning Tunneling Microscop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applying a voltage between the surface and the tip, the electrons can be made to tunnel preferentially from surface to t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p samples the distribution of electrons just above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M is very sensitive to the distance between the surface and the t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measurements of the height of surface features within 0.001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M Result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3809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“quantum corral” of 48 iron atoms on a coppe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ameter of the ring is 143 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ed with a low temperature S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51055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mitation of the ST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a serious limitation to the STM since it depends on the conductivity of the surface and the t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materials are not conductive at thei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tomic force microsco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been developed that overcomes this lim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easures the force between the tip and the sample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mparable sensi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ien’s Displacement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avelength of the peak of the blackbody distribution was found to follow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in’s Displacement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T = 0.289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m •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is the wavelength at which the curve’s p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 is the absolute temperature of the object emitting the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epts, # 2,5,7,11,1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#2,4,5,6,12,13,14,19,20,23,24,26,27,28,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Ultraviolet Catastroph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ical theory did not match the experimental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long wavelengths, the match is g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short wavelengths, classical theory predicted infinite ener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short wavelengths, experiment showed no ener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contradiction is called th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ltraviolet catastroph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4597560" y="1981080"/>
            <a:ext cx="447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nck’s Resolu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ck hypothesized that the blackbody radiation was produced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son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nators were submicroscopic charged oscil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onators could only ha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screte ener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n 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quantum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ƒ is the frequency of vib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6.62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J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point is quantized energy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r trek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ottie, hit them with 24 photons from the photon torpedo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ye captain but we’re low on energy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energy did Scottie need measured in Joules and in e∆V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23:23:56Z</dcterms:created>
  <dc:creator>Brooks/Cole</dc:creator>
  <dc:description/>
  <dc:language>en-US</dc:language>
  <cp:lastModifiedBy>gandella</cp:lastModifiedBy>
  <dcterms:modified xsi:type="dcterms:W3CDTF">2012-02-28T13:28:06Z</dcterms:modified>
  <cp:revision>25</cp:revision>
  <dc:subject/>
  <dc:title>Chapter 27</dc:title>
</cp:coreProperties>
</file>